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40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12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37.jpeg" ContentType="image/jpeg"/>
  <Override PartName="/ppt/media/image13.png" ContentType="image/png"/>
  <Override PartName="/ppt/media/image41.jpeg" ContentType="image/jpeg"/>
  <Override PartName="/ppt/media/image45.jpeg" ContentType="image/jpeg"/>
  <Override PartName="/ppt/media/image46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8E7-BD8D-4104-B841-D5851CD4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788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FA6A-42AE-4780-9D9B-9AB7264D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78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56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630-F27A-4FDF-B548-DC5E2006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588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352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788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588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352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6BC-F44C-4C4A-A2A3-EEF5237C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3ED9-5D83-4C8E-B060-372B4EE2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778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9A00-CED6-4023-8CB5-8525D34B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A160-1F74-4CAE-8975-306BDB56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877E-BDE2-4230-895A-ADA35E26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E6CE-FD41-4785-85F9-C5924386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7788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153F-2AE5-4B77-97DA-C063DA69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78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40C0-5BCA-41F9-A37C-FE60A315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78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182-4BFD-403C-B74C-C05D1E0F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056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314C-1620-4236-B9A7-D998F2C0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88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70E3-A110-4E65-AF74-DD414ED2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788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CB6B-D81B-4DF8-B1CC-4471F403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78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056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2541-034D-4D94-8263-A2F49A75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0588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352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7788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0588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352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7B44-5263-4C6D-9194-35A31CC2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17723-2639-488A-8786-F32E9F48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778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51CA5-45FD-4F87-894E-5FF5F9F5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8F08-5BD3-4BB5-A6F0-34BBDE57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E5F06-903D-4E8D-8341-0245E7CC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C10FB-76D2-4A76-A595-48C9BE9C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4D9-8B78-4ADE-BAE2-80FF1DD7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7788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06E8-B009-43F8-907A-7D9C3B0B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78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59AB0-DBCE-4974-B234-63528D9E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056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CB842-BCE6-4DE2-B559-99670CA7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788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37FA6-CA94-4793-BB2F-253203A1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7788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16AB-AAF4-430E-B029-FFE00330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778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056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5C451-BB29-487B-81AA-663D6EF5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0588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3352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7788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0588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3352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57A3-AFD4-49BD-A460-56837DE1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778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8E3-AAC1-46B6-B66F-CBAB742F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7788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8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056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7788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7788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778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056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588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3352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7788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588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3352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975-8408-46B4-BAFC-492E4A2B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788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3CA-23E2-49EB-B431-DB64D560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78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5FD-3ECA-49D8-911B-39FC75E8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56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42E-834B-490A-8E70-9CFAA403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78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56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788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787-4717-44DB-A9F8-1D970908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78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38960" y="6447960"/>
            <a:ext cx="36367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93600" y="6418080"/>
            <a:ext cx="46656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14880" y="6614640"/>
            <a:ext cx="4366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BB68-2999-42D4-900E-797381473C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5689080" y="6743880"/>
            <a:ext cx="314964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9440" y="38160"/>
            <a:ext cx="1101960" cy="1101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78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83200" y="171360"/>
            <a:ext cx="426708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3040" y="1771560"/>
            <a:ext cx="0" cy="25718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689080" y="6743880"/>
            <a:ext cx="314964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538960" y="6447960"/>
            <a:ext cx="36367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-93600" y="6418080"/>
            <a:ext cx="46656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14880" y="6614640"/>
            <a:ext cx="4366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E8E2-A318-45CE-B914-8A5FCCC0C5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9440" y="38160"/>
            <a:ext cx="1101960" cy="1101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83200" y="171360"/>
            <a:ext cx="426708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040" y="1771560"/>
            <a:ext cx="0" cy="25718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689080" y="6743880"/>
            <a:ext cx="314964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0275-58FE-46D9-B475-61BE44C50D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09440" y="38160"/>
            <a:ext cx="1101960" cy="1101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78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83200" y="171360"/>
            <a:ext cx="426708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3040" y="1771560"/>
            <a:ext cx="0" cy="25718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689080" y="6743880"/>
            <a:ext cx="314964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hyperlink" Target="file:///hurdal_brainflatten.mov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math.fsu.edu/~mhurdal" TargetMode="External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3080" y="72396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AM Graduate Summer Schoo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Mathematics in Brain Mapp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UCLA     July 17, 2004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rtical Surface Correction and Conformal Flat Mapping: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poCV and CirclePack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454320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ca K. Hurd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partment of Mathematic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lorida State University, Tallahass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hurdal@math.fsu.ed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math.fsu.edu/~mhur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34720" y="766800"/>
            <a:ext cx="8908920" cy="51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ultiple-connected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triangle belongs to the main part of the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ed/corrected using a region growing algorith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iangle ori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riangles are required to be oriented in the same direction; by convention, orientation assumed to be counter clockwi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ed/corrected by examining each interior 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00160" y="33120"/>
            <a:ext cx="7942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rface Problems Continued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268280" y="4782960"/>
            <a:ext cx="2990520" cy="1715400"/>
            <a:chOff x="1268280" y="4782960"/>
            <a:chExt cx="2990520" cy="1715400"/>
          </a:xfrm>
        </p:grpSpPr>
        <p:sp>
          <p:nvSpPr>
            <p:cNvPr id="215" name=""/>
            <p:cNvSpPr/>
            <p:nvPr/>
          </p:nvSpPr>
          <p:spPr>
            <a:xfrm flipV="1" rot="21586800">
              <a:off x="2395440" y="4990320"/>
              <a:ext cx="1509840" cy="12538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04880" y="4992480"/>
              <a:ext cx="1563840" cy="12542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68280" y="6038640"/>
              <a:ext cx="3330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84640" y="6038640"/>
              <a:ext cx="3330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36720" y="4782960"/>
              <a:ext cx="3330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25800" y="4782960"/>
              <a:ext cx="3330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2732040" y="5237640"/>
              <a:ext cx="329760" cy="62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168000" y="5177880"/>
              <a:ext cx="407160" cy="74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2631960" y="5090400"/>
              <a:ext cx="899640" cy="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941840" y="6088680"/>
              <a:ext cx="897840" cy="2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2476440" y="5389200"/>
              <a:ext cx="371520" cy="59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992600" y="5250240"/>
              <a:ext cx="398160" cy="74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989960" y="4843440"/>
            <a:ext cx="27579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iangle 1-2-3 g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ges 1-2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-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3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iangle 2-4-3 g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ges 2-4, 4-3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0F92-478B-4269-862F-3C6D15678A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49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ertex problems: singularity (pinched surf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surface touches itself at a single poi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ecked/corrected using vertex neighbors which form a vertex flower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ach vertex should be the center of at most 1 flow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f vertex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belongs to flower  of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, then                          vertex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must belong to the flower of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294960" y="4449600"/>
            <a:ext cx="2566080" cy="2080440"/>
            <a:chOff x="6294960" y="4449600"/>
            <a:chExt cx="2566080" cy="2080440"/>
          </a:xfrm>
        </p:grpSpPr>
        <p:sp>
          <p:nvSpPr>
            <p:cNvPr id="230" name=""/>
            <p:cNvSpPr/>
            <p:nvPr/>
          </p:nvSpPr>
          <p:spPr>
            <a:xfrm>
              <a:off x="6586560" y="4911840"/>
              <a:ext cx="630360" cy="581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591240" y="5500800"/>
              <a:ext cx="630360" cy="581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21600" y="4911840"/>
              <a:ext cx="628560" cy="581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35880" y="5506920"/>
              <a:ext cx="628560" cy="581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904800" y="4906800"/>
              <a:ext cx="630360" cy="581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50160" y="4911840"/>
              <a:ext cx="628560" cy="581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221600" y="5500800"/>
              <a:ext cx="628560" cy="581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7535880" y="4906800"/>
              <a:ext cx="628560" cy="581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850160" y="5500800"/>
              <a:ext cx="628560" cy="581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94960" y="52768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12280" y="60199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25000" y="60199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53920" y="60199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39480" y="52671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53920" y="4449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69560" y="4449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80520" y="44640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07240" y="5521320"/>
              <a:ext cx="39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05520" y="5506920"/>
              <a:ext cx="630360" cy="581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51320" y="552456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100160" y="-38160"/>
            <a:ext cx="7942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rface Problems Continued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11360" y="5450040"/>
            <a:ext cx="305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25760" y="5872320"/>
            <a:ext cx="297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591720" y="2398680"/>
            <a:ext cx="2400480" cy="1822320"/>
            <a:chOff x="3591720" y="2398680"/>
            <a:chExt cx="2400480" cy="1822320"/>
          </a:xfrm>
        </p:grpSpPr>
        <p:sp>
          <p:nvSpPr>
            <p:cNvPr id="254" name=""/>
            <p:cNvSpPr/>
            <p:nvPr/>
          </p:nvSpPr>
          <p:spPr>
            <a:xfrm>
              <a:off x="4533840" y="2787480"/>
              <a:ext cx="392040" cy="3362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7989200">
              <a:off x="4285080" y="2701080"/>
              <a:ext cx="385560" cy="3412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41960" y="2438280"/>
              <a:ext cx="763560" cy="354960"/>
            </a:xfrm>
            <a:custGeom>
              <a:avLst/>
              <a:gdLst/>
              <a:ahLst/>
              <a:rect l="l" t="t" r="r" b="b"/>
              <a:pathLst>
                <a:path w="642" h="300">
                  <a:moveTo>
                    <a:pt x="0" y="300"/>
                  </a:moveTo>
                  <a:cubicBezTo>
                    <a:pt x="9" y="283"/>
                    <a:pt x="27" y="232"/>
                    <a:pt x="54" y="193"/>
                  </a:cubicBezTo>
                  <a:cubicBezTo>
                    <a:pt x="81" y="154"/>
                    <a:pt x="120" y="95"/>
                    <a:pt x="162" y="63"/>
                  </a:cubicBezTo>
                  <a:cubicBezTo>
                    <a:pt x="204" y="32"/>
                    <a:pt x="252" y="8"/>
                    <a:pt x="306" y="4"/>
                  </a:cubicBezTo>
                  <a:cubicBezTo>
                    <a:pt x="360" y="0"/>
                    <a:pt x="438" y="10"/>
                    <a:pt x="486" y="39"/>
                  </a:cubicBezTo>
                  <a:cubicBezTo>
                    <a:pt x="534" y="69"/>
                    <a:pt x="568" y="140"/>
                    <a:pt x="594" y="182"/>
                  </a:cubicBezTo>
                  <a:cubicBezTo>
                    <a:pt x="620" y="224"/>
                    <a:pt x="632" y="271"/>
                    <a:pt x="642" y="294"/>
                  </a:cubicBezTo>
                </a:path>
              </a:pathLst>
            </a:custGeom>
            <a:noFill/>
            <a:ln w="38160">
              <a:solidFill>
                <a:srgbClr val="ffff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7932200">
              <a:off x="4683960" y="2700360"/>
              <a:ext cx="385560" cy="343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62640" y="239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72200" y="3046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74040" y="3046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27840" y="262404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43880" y="26524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91720" y="3428640"/>
              <a:ext cx="24004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losed flow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: 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…, 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422040" y="2160720"/>
            <a:ext cx="2007000" cy="1967760"/>
            <a:chOff x="6422040" y="2160720"/>
            <a:chExt cx="2007000" cy="1967760"/>
          </a:xfrm>
        </p:grpSpPr>
        <p:sp>
          <p:nvSpPr>
            <p:cNvPr id="265" name=""/>
            <p:cNvSpPr/>
            <p:nvPr/>
          </p:nvSpPr>
          <p:spPr>
            <a:xfrm rot="17962800">
              <a:off x="7186320" y="2714400"/>
              <a:ext cx="308160" cy="3301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94880" y="23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99120" y="2806560"/>
              <a:ext cx="416160" cy="2955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6645600">
              <a:off x="6896160" y="2589120"/>
              <a:ext cx="317520" cy="3398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91200" y="2422440"/>
              <a:ext cx="603360" cy="365040"/>
            </a:xfrm>
            <a:custGeom>
              <a:avLst/>
              <a:gdLst/>
              <a:ahLst/>
              <a:rect l="l" t="t" r="r" b="b"/>
              <a:pathLst>
                <a:path w="510" h="379">
                  <a:moveTo>
                    <a:pt x="0" y="115"/>
                  </a:moveTo>
                  <a:cubicBezTo>
                    <a:pt x="29" y="98"/>
                    <a:pt x="122" y="30"/>
                    <a:pt x="178" y="15"/>
                  </a:cubicBezTo>
                  <a:cubicBezTo>
                    <a:pt x="234" y="0"/>
                    <a:pt x="288" y="11"/>
                    <a:pt x="334" y="27"/>
                  </a:cubicBezTo>
                  <a:cubicBezTo>
                    <a:pt x="380" y="43"/>
                    <a:pt x="426" y="75"/>
                    <a:pt x="454" y="111"/>
                  </a:cubicBezTo>
                  <a:cubicBezTo>
                    <a:pt x="482" y="147"/>
                    <a:pt x="494" y="198"/>
                    <a:pt x="502" y="243"/>
                  </a:cubicBezTo>
                  <a:cubicBezTo>
                    <a:pt x="510" y="288"/>
                    <a:pt x="504" y="351"/>
                    <a:pt x="504" y="379"/>
                  </a:cubicBezTo>
                </a:path>
              </a:pathLst>
            </a:custGeom>
            <a:noFill/>
            <a:ln w="38160">
              <a:solidFill>
                <a:srgbClr val="ffff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45520" y="26463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83840" y="29797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07720" y="29685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93480" y="26208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24920" y="216072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n-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22040" y="3419280"/>
              <a:ext cx="200700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pen flow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: 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…, v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B43C-5F46-406C-99D9-66252D9FF8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2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Ho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urface should contain at most one closed boundary component; additional boundary components are h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ed/corrected by examining the boundary components and “filling” in missing regions with additional triang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Handles (or Tunnel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handle contributes -2 to the Euler characteri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umber of handles can only be determined after all other topological problems have been corr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le can be corrected in 2 possible way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t handle and then “cap” off ends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l in handle “tunne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les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formation about handles are known or assumed, then handle correction should be guided by volumetric data used to create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C7E-79FC-4A52-97D8-6EE27FA8262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397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362320" y="914400"/>
            <a:ext cx="685800" cy="31240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1447920"/>
            <a:ext cx="457200" cy="21333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2438280"/>
            <a:ext cx="762120" cy="2133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9548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7640" y="1219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92520" y="2133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A0E-D979-4B3B-8CCC-97810702936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690560"/>
            <a:ext cx="4397400" cy="43974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775040" y="1695600"/>
            <a:ext cx="4368960" cy="43686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7328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xing Handl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D3CD-919C-4998-B8AD-719D4132832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7240" y="342720"/>
            <a:ext cx="85615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rclePack: Software for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screte Conformal Flat Mapping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95120" y="1504800"/>
            <a:ext cx="8948880" cy="51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circle packing is a configuration of circles with a specified pattern of tangenc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crete Uniformization Theorem, Circle Packing Theorem and Ring Lemma guarantee that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his circle packing is unique and quasi-conforma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f triangulated surface consists of equilateral triangles, then the discrete packing converges to the conformal map in the limi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iven a simply-connected triangulated surf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present each vertex by a circle such that each vertex is located at the center of its circ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f two vertices form an edge in the triangulation, then their corresponding circles must be tang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ssign a positive number to each boundary verte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CF19-C312-415E-9443-0BDCA72AB4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6360" y="1733400"/>
            <a:ext cx="2524320" cy="37720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681280" y="1428840"/>
            <a:ext cx="2254320" cy="4076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084640" y="1447920"/>
            <a:ext cx="4059360" cy="4059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32040" y="120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Circle Packing Exampl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71E0-D067-44AE-A81C-0A544CF87F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705720" y="4651200"/>
            <a:ext cx="1838160" cy="18385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847800" y="4651200"/>
            <a:ext cx="1836720" cy="18370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9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Algorithm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560" y="65736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ive algorithm has been proven to conve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rface curvature is concentrated at the vert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et of circles can be “flattened” in the plane if the angle sum around a vertex is 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“flatten” a surface at the interior vert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3526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sitive curva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con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ngle sum &lt; 2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21080" y="3354480"/>
            <a:ext cx="263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ero curv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ngle sum = 2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248520" y="33544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gative curva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addle point (angle sum &gt; 2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3733920" y="4651200"/>
            <a:ext cx="1836720" cy="1837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flipH="1">
            <a:off x="5689080" y="6743880"/>
            <a:ext cx="314964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14F3-790A-43FB-9F81-BD5F2300B7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165800" y="238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511360" y="1949400"/>
            <a:ext cx="5118120" cy="4448160"/>
            <a:chOff x="2511360" y="1949400"/>
            <a:chExt cx="5118120" cy="4448160"/>
          </a:xfrm>
        </p:grpSpPr>
        <p:sp>
          <p:nvSpPr>
            <p:cNvPr id="304" name=""/>
            <p:cNvSpPr/>
            <p:nvPr/>
          </p:nvSpPr>
          <p:spPr>
            <a:xfrm>
              <a:off x="4441680" y="2004840"/>
              <a:ext cx="1425600" cy="1424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24040" y="1949400"/>
              <a:ext cx="1811520" cy="1811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11360" y="3722760"/>
              <a:ext cx="1355760" cy="13539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14800" y="4821120"/>
              <a:ext cx="1592280" cy="157644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87640" y="3375000"/>
              <a:ext cx="1554480" cy="1554120"/>
              <a:chOff x="3887640" y="3375000"/>
              <a:chExt cx="1554480" cy="1554120"/>
            </a:xfrm>
          </p:grpSpPr>
          <p:sp>
            <p:nvSpPr>
              <p:cNvPr id="309" name=""/>
              <p:cNvSpPr/>
              <p:nvPr/>
            </p:nvSpPr>
            <p:spPr>
              <a:xfrm>
                <a:off x="3887640" y="3375000"/>
                <a:ext cx="1554480" cy="1554120"/>
              </a:xfrm>
              <a:prstGeom prst="ellipse">
                <a:avLst/>
              </a:prstGeom>
              <a:solidFill>
                <a:srgbClr val="ffff99"/>
              </a:solidFill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81480" y="3797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506840" y="4254480"/>
                <a:ext cx="442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00600" y="3443400"/>
                <a:ext cx="442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49760" y="4108320"/>
                <a:ext cx="455760" cy="6890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4635360" y="4044960"/>
                <a:ext cx="777960" cy="921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484960" y="2819160"/>
              <a:ext cx="2144520" cy="2140200"/>
              <a:chOff x="5484960" y="2819160"/>
              <a:chExt cx="2144520" cy="2140200"/>
            </a:xfrm>
          </p:grpSpPr>
          <p:sp>
            <p:nvSpPr>
              <p:cNvPr id="316" name=""/>
              <p:cNvSpPr/>
              <p:nvPr/>
            </p:nvSpPr>
            <p:spPr>
              <a:xfrm>
                <a:off x="5489640" y="2819160"/>
                <a:ext cx="2139840" cy="2140200"/>
              </a:xfrm>
              <a:prstGeom prst="ellipse">
                <a:avLst/>
              </a:prstGeom>
              <a:solidFill>
                <a:srgbClr val="ffff99"/>
              </a:solidFill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69200" y="353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w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5484960" y="3917520"/>
                <a:ext cx="963360" cy="112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5867280" y="3936600"/>
                <a:ext cx="571680" cy="8794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58920" y="3335400"/>
                <a:ext cx="496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r</a:t>
                </a:r>
                <a:r>
                  <a:rPr b="1" i="1" lang="en-U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w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10000" y="4157640"/>
                <a:ext cx="496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r</a:t>
                </a:r>
                <a:r>
                  <a:rPr b="1" i="1" lang="en-U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w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835520" y="4727520"/>
              <a:ext cx="1392120" cy="1392120"/>
              <a:chOff x="4835520" y="4727520"/>
              <a:chExt cx="1392120" cy="1392120"/>
            </a:xfrm>
          </p:grpSpPr>
          <p:sp>
            <p:nvSpPr>
              <p:cNvPr id="323" name=""/>
              <p:cNvSpPr/>
              <p:nvPr/>
            </p:nvSpPr>
            <p:spPr>
              <a:xfrm>
                <a:off x="4835520" y="4727520"/>
                <a:ext cx="1392120" cy="1392120"/>
              </a:xfrm>
              <a:prstGeom prst="ellipse">
                <a:avLst/>
              </a:prstGeom>
              <a:solidFill>
                <a:srgbClr val="ffff99"/>
              </a:solidFill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295600" y="53197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ff00"/>
                    </a:solidFill>
                    <a:latin typeface="Times New Roman"/>
                  </a:rPr>
                  <a:t>u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07440" y="4941720"/>
                <a:ext cx="470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ff00"/>
                    </a:solidFill>
                    <a:latin typeface="Times New Roman"/>
                  </a:rPr>
                  <a:t>r</a:t>
                </a:r>
                <a:r>
                  <a:rPr b="1" i="1" lang="en-US" sz="3200" spc="-1" strike="noStrike" baseline="-25000">
                    <a:solidFill>
                      <a:srgbClr val="00ff00"/>
                    </a:solidFill>
                    <a:latin typeface="Times New Roman"/>
                  </a:rPr>
                  <a:t>u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43680" y="4844880"/>
                <a:ext cx="350640" cy="57168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5479920" y="4786200"/>
                <a:ext cx="416160" cy="64440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943880" y="4970520"/>
                <a:ext cx="470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ff00"/>
                    </a:solidFill>
                    <a:latin typeface="Times New Roman"/>
                  </a:rPr>
                  <a:t>r</a:t>
                </a:r>
                <a:r>
                  <a:rPr b="1" i="1" lang="en-US" sz="3200" spc="-1" strike="noStrike" baseline="-25000">
                    <a:solidFill>
                      <a:srgbClr val="00ff00"/>
                    </a:solidFill>
                    <a:latin typeface="Times New Roman"/>
                  </a:rPr>
                  <a:t>u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44600" y="716040"/>
                <a:ext cx="8623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w</m:t>
                            </m:r>
                          </m:e>
                        </m:d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590840" y="187200"/>
            <a:ext cx="676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ll faces             containing vertex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784680" y="349200"/>
                <a:ext cx="11556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B3A1-54A2-4ADB-91C0-6F120B13550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80800" y="-38160"/>
            <a:ext cx="75056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Algorithm (Continued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39200" y="758880"/>
            <a:ext cx="8704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collection of tangent circles is a circle packing and gives us a new surface in </a:t>
            </a:r>
            <a:r>
              <a:rPr b="0" i="1" lang="en-US" sz="2800" spc="-1" strike="noStrike">
                <a:solidFill>
                  <a:srgbClr val="ffffff"/>
                </a:solidFill>
                <a:latin typeface="AGaramond Bold"/>
              </a:rPr>
              <a:t>R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ich  is our quasi-conformal flat mapp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to compute the location of the circle centers in </a:t>
            </a:r>
            <a:r>
              <a:rPr b="0" i="1" lang="en-US" sz="2800" spc="-1" strike="noStrike">
                <a:solidFill>
                  <a:srgbClr val="ffffff"/>
                </a:solidFill>
                <a:latin typeface="AGaramond Bold"/>
              </a:rPr>
              <a:t>R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ce the first 2 tangent circles are laid 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circle in the flat map corresponds to a vertex in the original 3D su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algorithm exists for hyperbolic geome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known spherical algorithm: use stereographic projection to generate spherical m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: A packing only exists once all the radii have been compute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4EE8-7FBE-47D6-8960-9E2BA9C4BC8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9036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pping the Br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7880" y="923760"/>
            <a:ext cx="8466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processing mainly on cortical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rface-based (2D) analysis methods desired rather than volume-based (3D) methods =&gt;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rtical Flat Map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ssible to flatten a surface with intrinsic curvature (such as the brain) without introducing metric or areal distortions: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“Map Maker’s Proble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-based approaches (i.e. area or length preserving maps) will always have distor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2DF9-C361-4CB7-86B5-5DB26168C1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71680" y="110484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 flipH="1">
            <a:off x="5689080" y="6743880"/>
            <a:ext cx="314964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0640" y="2667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erebellum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7E4E-284C-408B-A894-C18251623A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rcRect l="8638" t="5600" r="43522" b="50085"/>
          <a:stretch/>
        </p:blipFill>
        <p:spPr>
          <a:xfrm>
            <a:off x="6769080" y="5035680"/>
            <a:ext cx="2281320" cy="14079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683240" y="952560"/>
            <a:ext cx="4460760" cy="44607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20600" y="1904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uclidean &amp; Spherical Map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rcRect l="8852" t="49285" r="43308" b="7043"/>
          <a:stretch/>
        </p:blipFill>
        <p:spPr>
          <a:xfrm>
            <a:off x="264960" y="5037120"/>
            <a:ext cx="2276640" cy="1386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rcRect l="0" t="5121" r="0" b="0"/>
          <a:stretch/>
        </p:blipFill>
        <p:spPr>
          <a:xfrm>
            <a:off x="236520" y="1143000"/>
            <a:ext cx="447048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0C3D-4B14-4228-930A-84D11B21ABA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676680" y="43909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30120" y="741240"/>
            <a:ext cx="4461120" cy="4464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4730760" y="739800"/>
            <a:ext cx="4433760" cy="4437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7840" y="5688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perbolic Map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4"/>
          <a:srcRect l="8852" t="49285" r="43308" b="7043"/>
          <a:stretch/>
        </p:blipFill>
        <p:spPr>
          <a:xfrm>
            <a:off x="264960" y="5035680"/>
            <a:ext cx="2276640" cy="13856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rcRect l="8638" t="5600" r="43522" b="50085"/>
          <a:stretch/>
        </p:blipFill>
        <p:spPr>
          <a:xfrm>
            <a:off x="6769080" y="5035680"/>
            <a:ext cx="228132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F154-BB08-422A-A533-28628337895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8400" y="1577520"/>
            <a:ext cx="3152520" cy="25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lat Maps of Different Subjec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664080" y="27000"/>
            <a:ext cx="5016240" cy="635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CDD3-558B-4A9D-B565-DD831CA3792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2680" y="533160"/>
            <a:ext cx="3238560" cy="58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ft Hemisphere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Occipital Lobe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Map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862440" y="-30240"/>
            <a:ext cx="5356080" cy="64864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057560" y="2467080"/>
            <a:ext cx="162000" cy="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1971720"/>
            <a:ext cx="152280" cy="1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81600" y="1400040"/>
            <a:ext cx="8892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48240" y="3321000"/>
            <a:ext cx="885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2AAE-D584-47F2-956A-778F23671EC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9080" y="-22320"/>
            <a:ext cx="5494320" cy="36356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3600360" y="2509920"/>
            <a:ext cx="5531040" cy="365904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357120" y="3216240"/>
            <a:ext cx="3052800" cy="2800080"/>
            <a:chOff x="357120" y="3216240"/>
            <a:chExt cx="3052800" cy="2800080"/>
          </a:xfrm>
        </p:grpSpPr>
        <p:sp>
          <p:nvSpPr>
            <p:cNvPr id="359" name=""/>
            <p:cNvSpPr/>
            <p:nvPr/>
          </p:nvSpPr>
          <p:spPr>
            <a:xfrm>
              <a:off x="838440" y="3216240"/>
              <a:ext cx="2571480" cy="28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ccipital Lob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emporal Lob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ietal Lob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Frontal Lob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imbic Lob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ound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7120" y="3235320"/>
              <a:ext cx="400320" cy="266760"/>
            </a:xfrm>
            <a:prstGeom prst="rect">
              <a:avLst/>
            </a:prstGeom>
            <a:solidFill>
              <a:srgbClr val="bf7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2160" y="3711600"/>
              <a:ext cx="399960" cy="266760"/>
            </a:xfrm>
            <a:prstGeom prst="rect">
              <a:avLst/>
            </a:prstGeom>
            <a:solidFill>
              <a:srgbClr val="606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7120" y="4187880"/>
              <a:ext cx="400320" cy="266760"/>
            </a:xfrm>
            <a:prstGeom prst="rect">
              <a:avLst/>
            </a:prstGeom>
            <a:solidFill>
              <a:srgbClr val="7aa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2160" y="4702320"/>
              <a:ext cx="399960" cy="266760"/>
            </a:xfrm>
            <a:prstGeom prst="rect">
              <a:avLst/>
            </a:prstGeom>
            <a:solidFill>
              <a:srgbClr val="ffd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7120" y="5178600"/>
              <a:ext cx="400320" cy="266400"/>
            </a:xfrm>
            <a:prstGeom prst="rect">
              <a:avLst/>
            </a:prstGeom>
            <a:solidFill>
              <a:srgbClr val="8f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7120" y="5635800"/>
              <a:ext cx="400320" cy="2664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35880" y="5983200"/>
            <a:ext cx="86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cellated data courtesy of David Van Essen, Washington U. School of Medicine, St. Lou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20920" y="267840"/>
            <a:ext cx="4103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Visible Man Cerebrum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903-A6CB-4D6E-BC8A-B68EEAC0852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418000" y="3298680"/>
            <a:ext cx="3619800" cy="31276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rcRect l="0" t="17819" r="0" b="0"/>
          <a:stretch/>
        </p:blipFill>
        <p:spPr>
          <a:xfrm>
            <a:off x="190440" y="3309840"/>
            <a:ext cx="3924360" cy="30164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5384880" y="54000"/>
            <a:ext cx="3606840" cy="31179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>
            <a:lum contrast="-60000"/>
          </a:blip>
          <a:srcRect l="9500" t="11501" r="4126" b="5499"/>
          <a:stretch/>
        </p:blipFill>
        <p:spPr>
          <a:xfrm>
            <a:off x="316080" y="-3240"/>
            <a:ext cx="3508200" cy="33717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400640" y="1555920"/>
            <a:ext cx="6285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656400" y="2957400"/>
            <a:ext cx="1440" cy="62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4438800" y="4653000"/>
            <a:ext cx="628560" cy="1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-360" y="58546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5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ACC-0D15-4830-92AA-F755168C8E6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39680" y="-54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win Study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2120" y="154944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with non-twin brains, identical twin brains have individual variability i.e. brains ar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cal in the location, size and extent of fo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m: determine if twin brains more similar than non-twin br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so, this can be used to help identify where a disease manifests itself if one twin has a disease/condition that the other does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t maps can help identify similarities and differences in the curvature and folding patte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ing medial prefrontal co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30320" y="615960"/>
            <a:ext cx="811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llaboration with Center for Imaging Science (Biomed. Eng.), Johns Hopkins U. &amp; Psychiatry and Radiology Departments, Washington U. School of Medicin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0DD3-E03E-4048-A466-BBBAFCB498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739800" y="74520"/>
            <a:ext cx="785340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BDA-55C7-454F-9160-4A078EEC9F68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rcRect l="3324" t="3516" r="932" b="4358"/>
          <a:stretch/>
        </p:blipFill>
        <p:spPr>
          <a:xfrm>
            <a:off x="241200" y="380880"/>
            <a:ext cx="3318120" cy="30178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rcRect l="3324" t="3516" r="-393" b="0"/>
          <a:stretch/>
        </p:blipFill>
        <p:spPr>
          <a:xfrm>
            <a:off x="5816520" y="528480"/>
            <a:ext cx="3327480" cy="31276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rcRect l="0" t="703" r="0" b="5344"/>
          <a:stretch/>
        </p:blipFill>
        <p:spPr>
          <a:xfrm>
            <a:off x="3132000" y="3357720"/>
            <a:ext cx="3456000" cy="30715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652040" y="-41400"/>
            <a:ext cx="689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MPFC Coordinate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7435800" y="4029120"/>
            <a:ext cx="1168560" cy="15494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443000" y="554184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v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F31-C366-480C-B7C0-23778CE76491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475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lattening Surfaces with Intrinsic Curva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1600" y="1147680"/>
            <a:ext cx="906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at about preserving angles?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conformal map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preserves angles and angle dire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thematical theory (Riemann Mapping Theorem, 1850’s) says there exists a unique conformal mapping from a simply-connected surface to the plane, hyperbolic plane (unit disk) or sphe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formal maps offer a number of useful properties including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3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hematically uniqu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3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fferent geometries availa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3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anonical coordinate syst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00720" y="5438880"/>
            <a:ext cx="462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A9B5-F264-4BA7-A671-7B0C8712073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13840" y="1469880"/>
            <a:ext cx="8929800" cy="527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n advantage of  conformal mapping via circle packing is the flexibility to map a region to a desired shap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oundary angles, rather than boundary radii are preserve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r a rectangle: 4 boundary vertices are nominated to act as the corners of the rectangl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spect ratio (width/height) is a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conformal invarian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of the surface (relative to the 4 corners) and is called the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extremal length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formal modulus represents one measure of shap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wo surfaces are conformally equivalent if and only if their conformal modulus is the sam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482760" y="333360"/>
            <a:ext cx="8719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ircle Packing Flexibility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tangular Discrete Conformal Map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C81C-FDE7-48AB-8395-B5ACB1E03F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rcRect l="0" t="6158" r="0" b="0"/>
          <a:stretch/>
        </p:blipFill>
        <p:spPr>
          <a:xfrm>
            <a:off x="2044800" y="3103560"/>
            <a:ext cx="1719000" cy="15238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388280" y="2986200"/>
            <a:ext cx="1719360" cy="16239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rcRect l="2260" t="0" r="2260" b="2584"/>
          <a:stretch/>
        </p:blipFill>
        <p:spPr>
          <a:xfrm>
            <a:off x="700200" y="4505400"/>
            <a:ext cx="1245960" cy="16286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rcRect l="2260" t="1765" r="3307" b="3397"/>
          <a:stretch/>
        </p:blipFill>
        <p:spPr>
          <a:xfrm>
            <a:off x="2305080" y="4552920"/>
            <a:ext cx="1233360" cy="1584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5"/>
          <a:srcRect l="3280" t="1706" r="1096" b="1995"/>
          <a:stretch/>
        </p:blipFill>
        <p:spPr>
          <a:xfrm>
            <a:off x="6114960" y="4508640"/>
            <a:ext cx="1249560" cy="16095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6"/>
          <a:srcRect l="1041" t="2584" r="4348" b="2311"/>
          <a:stretch/>
        </p:blipFill>
        <p:spPr>
          <a:xfrm>
            <a:off x="7569360" y="4537080"/>
            <a:ext cx="1234800" cy="15908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299280" y="60148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.7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-155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uclidean Maps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pecify Boundary Radius or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431640" y="1542960"/>
            <a:ext cx="1719360" cy="16239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8"/>
          <a:srcRect l="0" t="0" r="0" b="7059"/>
          <a:stretch/>
        </p:blipFill>
        <p:spPr>
          <a:xfrm>
            <a:off x="2300400" y="1639800"/>
            <a:ext cx="1719000" cy="15098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9"/>
          <a:srcRect l="0" t="0" r="0" b="11294"/>
          <a:stretch/>
        </p:blipFill>
        <p:spPr>
          <a:xfrm>
            <a:off x="5673600" y="1623960"/>
            <a:ext cx="1719360" cy="1440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0"/>
          <a:srcRect l="0" t="0" r="0" b="6069"/>
          <a:stretch/>
        </p:blipFill>
        <p:spPr>
          <a:xfrm>
            <a:off x="7421400" y="1608120"/>
            <a:ext cx="1719360" cy="15256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752400" y="13129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006400" y="13161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1520" y="13161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29720" y="13161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38720" y="106056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in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13800" y="105876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in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1"/>
          <a:stretch/>
        </p:blipFill>
        <p:spPr>
          <a:xfrm>
            <a:off x="5678640" y="2938320"/>
            <a:ext cx="1719000" cy="16243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2"/>
          <a:stretch/>
        </p:blipFill>
        <p:spPr>
          <a:xfrm>
            <a:off x="433440" y="2976480"/>
            <a:ext cx="1719360" cy="16239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866880" y="601344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.7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90840" y="60134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8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67720" y="60134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8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15800" y="6013440"/>
            <a:ext cx="18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tremal 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86240" y="2013120"/>
            <a:ext cx="9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82240" y="3451320"/>
            <a:ext cx="195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clidean Map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undary Radi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72600" y="4968720"/>
            <a:ext cx="187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clidean Map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undary 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08F6-2809-4E9F-A7BF-2E494D61B063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6360" y="1279440"/>
            <a:ext cx="3295800" cy="46292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308400" y="622440"/>
            <a:ext cx="2901960" cy="58039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47120" y="-38160"/>
            <a:ext cx="811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rtical Region Containing VMPF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50040" y="1044720"/>
            <a:ext cx="28018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G = cingulate gyr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S = cingulate sulc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 = gyrus rect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RS = inferior rostra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lc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= lateral orbita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lc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G = medial orbita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yr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C = orbital fronta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rte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S = olfactory sulc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S = orbital sul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S = pericallosal sulc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RS = superior rostra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lc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F19-3D92-4E60-85AF-FE63181523E6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ture Mathematical Issu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367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ing maps between subjects: metr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ignment of different reg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ign one volume or surface in 3-space to another and then quasi-conformally flat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si-conformally flat map 2 different surfaces and then align/morph one to the other (in 2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is of similarities, differences between different map reg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ing functional data onto cortical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8FB2-A5BB-42FD-A4AA-521808F57BC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0160" y="25236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80880" y="93996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neuroscientific research goal: understand functional processing of human brain &amp; make conclusions regarding individual differences in functional organization -- may lead to better diagnostic tool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unctional processing mainly on brain surfa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D analysis methods rather than volumetric analysis methods needed --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brain flat map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formal flat maps are mathematically unique with a variety of features and may lead to localization of functional regions in normal &amp; diseased subjec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formal extremal length measures need to be investigat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50 year-old mathematics being used in medical re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D8E8-9721-46B1-9D67-70D56EC629A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94840" y="207720"/>
            <a:ext cx="873468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ftwar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33360" y="549000"/>
            <a:ext cx="8688240" cy="59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software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opoC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opo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ogy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ecker and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ewer) is available for download from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http://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www.math.fsu.edu/~mhurda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and runs on Linux. SGI, SUN and AIX platform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s to the conformal flattening softwar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irclePac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ftware (written by Ken Stephenson) can also be found there.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opoC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software will also reformat surfaces into the format required by CirclePack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poC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an read in and output surfaces in a variety of file formats (including byu, obj, off, vtk, CARET, CirclePack and FreeSurf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1C2D-C225-44A5-BEB9-CD356F8B48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82800" y="304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629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Witt Sumners, Phil Bowers  (Math, FS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n Stephenson, Chuck Collins (Math, UTK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lly Rehm, Kirt Schaper, Josh Stern, David Rottenberg (Radiology, Neurology, UMinneso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hael Miller, Center for Imaging Science (Biomed, JHU) &amp; Kelly Botteron (Radiology, Psychiatry, WashU), Agatha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H Human Brain Project Grant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EB020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SF Focused Research Group Grant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DMS-0101329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information on Brain Mapp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RL: http://www.math.fsu.edu/~mhurd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mail: mhurdal@math.fsu.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14C8-D170-4135-A795-6700DFF74D5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20600" y="-39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nformal Mapping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1000" y="685800"/>
            <a:ext cx="8245440" cy="19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formal maps preserve angles and                                      angle sense (angle direction) where                                              an angle between 2 curves is defined to be the angle between  the tangent lines of the 2 intersecting curv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41920" y="37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013280" y="-776880"/>
            <a:ext cx="9066600" cy="8729280"/>
            <a:chOff x="4013280" y="-776880"/>
            <a:chExt cx="9066600" cy="8729280"/>
          </a:xfrm>
        </p:grpSpPr>
        <p:grpSp>
          <p:nvGrpSpPr>
            <p:cNvPr id="184" name=""/>
            <p:cNvGrpSpPr/>
            <p:nvPr/>
          </p:nvGrpSpPr>
          <p:grpSpPr>
            <a:xfrm>
              <a:off x="4013280" y="-776880"/>
              <a:ext cx="9066600" cy="8729280"/>
              <a:chOff x="4013280" y="-776880"/>
              <a:chExt cx="9066600" cy="8729280"/>
            </a:xfrm>
          </p:grpSpPr>
          <p:sp>
            <p:nvSpPr>
              <p:cNvPr id="185" name=""/>
              <p:cNvSpPr/>
              <p:nvPr/>
            </p:nvSpPr>
            <p:spPr>
              <a:xfrm>
                <a:off x="4413600" y="951840"/>
                <a:ext cx="4301280" cy="146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8138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813821"/>
                  </a:path>
                </a:pathLst>
              </a:custGeom>
              <a:noFill/>
              <a:ln w="38160">
                <a:solidFill>
                  <a:srgbClr val="ffffff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9240800">
                <a:off x="4782600" y="1028520"/>
                <a:ext cx="7527240" cy="511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038" y="3"/>
                    </a:moveTo>
                    <a:arcTo wR="10800" hR="10800" stAng="-5324156" swAng="19822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038" y="3"/>
                    </a:moveTo>
                    <a:arcTo wR="10800" hR="10800" stAng="-5324156" swAng="1982204"/>
                  </a:path>
                </a:pathLst>
              </a:custGeom>
              <a:noFill/>
              <a:ln w="38160">
                <a:solidFill>
                  <a:srgbClr val="ffffff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rot="3037200">
              <a:off x="6622560" y="394200"/>
              <a:ext cx="1462680" cy="14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896" y="807"/>
                  </a:moveTo>
                  <a:arcTo wR="10800" hR="10800" stAng="-4062640" swAng="1210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896" y="807"/>
                  </a:moveTo>
                  <a:arcTo wR="10800" hR="10800" stAng="-4062640" swAng="1210757"/>
                </a:path>
              </a:pathLst>
            </a:custGeom>
            <a:noFill/>
            <a:ln w="38160">
              <a:solidFill>
                <a:srgbClr val="ffffff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07920" y="840240"/>
              <a:ext cx="2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33240" y="2313000"/>
            <a:ext cx="2432160" cy="2432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086520" y="2314440"/>
            <a:ext cx="2440080" cy="244008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3386160" y="3000240"/>
            <a:ext cx="2562120" cy="658800"/>
            <a:chOff x="3386160" y="3000240"/>
            <a:chExt cx="2562120" cy="658800"/>
          </a:xfrm>
        </p:grpSpPr>
        <p:sp>
          <p:nvSpPr>
            <p:cNvPr id="192" name=""/>
            <p:cNvSpPr/>
            <p:nvPr/>
          </p:nvSpPr>
          <p:spPr>
            <a:xfrm flipV="1">
              <a:off x="3852720" y="3644640"/>
              <a:ext cx="1484640" cy="144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3386160" y="3000240"/>
                  <a:ext cx="256212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z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4" name=""/>
          <p:cNvSpPr/>
          <p:nvPr/>
        </p:nvSpPr>
        <p:spPr>
          <a:xfrm>
            <a:off x="984240" y="4772160"/>
            <a:ext cx="8434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 the discrete setting, mapping a surface embedded in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formally to the plane corresponds to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preserving angle proportion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the angle at a vertex in original surface maps so that it is the Euclidean measure rescaled so the total angle sum measure is 2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0EA6-6724-404E-AFC2-1BE9C6B6A1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19320" y="763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rtical Surface “Flattening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6440" y="1238400"/>
            <a:ext cx="8737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act region of interest from MRI vol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tical regions defined by various lobes and fissures color coded for identification purpo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riangulated surface of neural tissue from MRI vol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attening methods required a surface topologically equivalent to a sphere or disc: surface topology corr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DD59-4955-4402-A752-2F6AA41EC71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751040"/>
            <a:ext cx="82296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7880" y="-41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rtical Surfac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0800" y="635040"/>
            <a:ext cx="8400960" cy="43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ew algorithms (but more emerging) are available for creating topologically correct cortical surfaces; widely used algorithms, such as the marching cubes/tetraheda algorithms, generate surfaces with topological erro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rtical surface topologically correct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topological sphere has no boundary component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topological disc has a single closed boundary component formed by the boundary edge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rtical flattening: a single closed boundary cut may be introduced into a topological sphere to act as a map boundary under flatte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E56C-BDC1-47B7-B5FE-CDB4D6D153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0948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143000"/>
            <a:ext cx="82310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6676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poCV: Software for Correcting Cortical Surface Topolog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7680" y="1371600"/>
            <a:ext cx="8896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ological problems are detected and repaired using topological invariants and examining the connectivity of the surf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surface t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258480"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i="1" lang="en-US" sz="2700" spc="-1" strike="noStrike">
                <a:solidFill>
                  <a:srgbClr val="ffff00"/>
                </a:solidFill>
                <a:latin typeface="Times New Roman"/>
              </a:rPr>
              <a:t>Euler characteristic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is defined to b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v, e, f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are the numbers of vertices, edges and faces of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respectivel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258480"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i="1" lang="en-US" sz="2700" spc="-1" strike="noStrike">
                <a:solidFill>
                  <a:srgbClr val="ffff00"/>
                </a:solidFill>
                <a:latin typeface="Times New Roman"/>
              </a:rPr>
              <a:t>genus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is defined to b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m(S)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is the number of boundary components of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301920" y="3976560"/>
                <a:ext cx="2540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270400" y="5200560"/>
                <a:ext cx="39117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χ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33E5-8A9F-43A6-921E-04814C8165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5200" y="183960"/>
            <a:ext cx="884880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pological Invarian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3360" y="987480"/>
            <a:ext cx="8688240" cy="52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 surface is topologically correct, then it is a topological sphere if and only if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S) =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it is a topological disc if and only if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S) = 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NOTE: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a surface with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S) = 2 is NOT necessarily topologically corr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mber of handles i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 = 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 topological problems include multiple-connected components, non-manifold edges, holes and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5A53-F36D-4576-AD57-06FBB8A693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82760" y="19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ypes of Topological Problem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0160" y="860400"/>
            <a:ext cx="9024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5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Unused vertic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5000"/>
              </a:lnSpc>
              <a:spcBef>
                <a:spcPts val="3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tices which do not belong to any triangle fa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5000"/>
              </a:lnSpc>
              <a:spcBef>
                <a:spcPts val="3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ecked/corrected by examining the connectivity of the surfac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5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Duplicate triang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5000"/>
              </a:lnSpc>
              <a:spcBef>
                <a:spcPts val="3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iangle faces which are listed twice: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5000"/>
              </a:lnSpc>
              <a:spcBef>
                <a:spcPts val="3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ecked/corrected by examining the vertex components of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5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Non-manifold edg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5000"/>
              </a:lnSpc>
              <a:spcBef>
                <a:spcPts val="3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ach edge of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is required to be an interior edge or a boundary 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5000"/>
              </a:lnSpc>
              <a:spcBef>
                <a:spcPts val="3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dges which occur 3 or more times are non-manifold edges i.e. walls, ridges, bubb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5000"/>
              </a:lnSpc>
              <a:spcBef>
                <a:spcPts val="3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ecked/corrected using a region growing algorith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4 Monica K. Hurdal      URL: www.math.fsu.edu/~mhurdal   Department of Mathematics, Florida 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03F7-FDB6-45F8-8832-2E15E9107C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PAM - Mathematics in Brain Imaging, July17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8T17:17:02Z</dcterms:created>
  <dc:creator>Monica K. Hurdal</dc:creator>
  <dc:description/>
  <dc:language>en-US</dc:language>
  <cp:lastModifiedBy>Monica Hurdal</cp:lastModifiedBy>
  <cp:lastPrinted>2000-10-07T23:09:56Z</cp:lastPrinted>
  <dcterms:modified xsi:type="dcterms:W3CDTF">2004-08-18T18:46:54Z</dcterms:modified>
  <cp:revision>158</cp:revision>
  <dc:subject/>
  <dc:title>Flat Mapping the Brain</dc:title>
</cp:coreProperties>
</file>